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ACA-1ADB-48CB-B7AA-2C0189C3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09B-8431-4BC0-BEE2-B189D88C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337E2-24D1-4789-9808-A7403239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D734E-BE17-4098-A5BB-CF22B1B1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C0415-F239-4097-8DBD-2A7C99E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77D1A-FF18-4492-A94F-5F87166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E4DEC-DF6D-4A8B-94B9-C65A203D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924FF-88AB-4C1E-A38D-D5EA489C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1A6FB-FFEB-4685-91D5-03A9C22F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D7DE4-4C5C-401A-A100-B3176509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4D4CB-FF7D-4672-875C-3FE4D269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8E013-883D-47EB-AF4D-59829883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0E8-7570-4241-9B55-536E4E82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A6166-4F6B-4915-B047-844B42E9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CDEAC2-B07F-4D28-A808-46BDF12A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D032A-FE09-46BC-8715-2D6B101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F9EC7-29E7-4296-A230-3090F8D1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94353-DA3E-4DE7-AB20-B577CEEC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2D43D-9C53-4713-A7B9-AC24043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A01AC-A4C2-4EBC-AF96-80F84806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D9EE9-7FE9-49E6-809D-3761FDE8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DC67B-E6C0-43BB-BC1A-93EA3F78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B86D4-F48D-478A-8A10-BA1CB260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9E1-ED14-43E3-8AAC-E0A1D536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68EB0-5746-427B-93F1-7181B5C4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26B7B-CEDB-4473-95FE-8AB26562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D127A-417F-4FAF-B1BD-7E1E3ABD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7742D-8C74-44AA-9AC0-88BDF60C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53C50-6E75-40B1-9654-BC449849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78627-8805-4725-A942-9EA03034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0C601-9512-4A45-8C51-AD871EFB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68199-CAD6-48D9-B7AB-0E176643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9623D-F4C7-432E-A7F2-690FB6A3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15550-264B-4E97-AB51-C2EB560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7CB1-B58B-4EA7-86A4-35677994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38B0F-1A1F-4D66-A004-DB7ABC92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3A7AD-5D67-4816-9B77-D601CC9D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6E329-E2DF-4AD4-AB34-2C8A4354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72961-86AC-4891-89A9-7C0E6248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C1D33C-F34B-4A85-9F26-C159697A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93A6D-F886-4076-BEAA-3B0F606B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A7A6F-CE18-4D0B-9148-3B748891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4113A-025F-42E8-A5F8-CB50CDDD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6D477-DD07-40E8-851C-24325861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F3280-DB3E-4B7E-BC8B-505C53BD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E465-F8AF-42FA-AB80-6E0EFB24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81FD7-67A6-4095-A3E5-05ED5B9B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93624-2713-4094-BB4E-49DE62F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81D48-D3F8-43B9-AEDD-7530ABC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9A72F-6351-4D21-B985-3F567BFF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F03F9-C2C9-4D0E-A7BE-AA198BD5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4FBD-97A4-40A9-9530-8BF086C9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9329-4384-4500-980B-E8EC82C4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1B99-0128-4C5C-A67E-BF80728F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A942-A3F3-4A60-8358-EF35D868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B629-5968-4B8C-A7A3-7945CC5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D8D-7C7A-465B-8E3C-F1DC23FE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F72E-9E39-4C98-A284-9C157118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5482-7AF0-4D9C-A28E-B382D7FF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4507-6459-4440-A06E-1B480A07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A7FC-83F4-4165-B687-3AF6F8B9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D070-DE98-4F6A-A876-00092205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37A7-3C38-407E-A69C-89E400AB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EE99-32E3-4A3D-93D2-5D83A85B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0DD26-733D-4B71-8FEC-E42BD5AC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9A6B-46DA-43DB-841C-2EFCE2FF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84AE-1952-432D-9BC0-5DE796E1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509-31AD-4954-8E95-C62E90EE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8AC2-DA1D-47EF-9B11-EC9FB6D1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4C34-9545-429E-836A-765C56F8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4507-8285-4FE3-80CE-BBB76C96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66E4-D772-4CFE-932B-A3CB386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D5EA-F687-41AD-A02D-11523B2C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4ADC-C277-45A6-89DF-C90FC7C3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632BA-04F2-45FE-A6D9-3B88DF88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3FCA-5442-4EE6-AD4B-48893A6D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C6D77-CACF-42AA-90C1-BD9E1672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B54D6-6560-400C-9741-97CB506C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7C9-2D8E-4A5F-840F-F3DC42CD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ABFC-AAA6-4256-8E64-CC6F03FA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2889-A237-4B22-9D84-3E446502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71BD-0C72-4AE7-B5CE-4A14E25F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BA4AA-7F08-4862-A2DF-92DDCCF0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8C2E-D4B4-447C-A94B-542B700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BC98B-4D0A-4E52-9570-490BDC0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28C1-32C8-4E83-9B14-4D0C9316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0646-CA62-4669-BD66-C79AF01F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EB4FC-7281-4DD1-81E8-7AAF9C9D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ED8B-50B5-45E5-9FE5-39A9C66C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C55-164F-4BBC-A87F-5A8CD41E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8F8A-8C41-4529-879E-964F2AD0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95E14-7890-449D-83FA-AD2445BD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FE22-8924-4C18-A7F4-BD0F56BA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C88E7-7CBD-43FC-828E-36D663C4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28D79-CAD8-43AF-99B9-BC0C4FCB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CD5E0-3ABA-4F21-99D0-61B8B61B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5175-B208-4075-8CD5-888010B9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F11FA-7CEC-4A29-994F-3AAEEA71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410A-2641-4B06-ACC7-A50E0E69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ACFF9-61F1-4A68-857A-2C130AC6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76E-EDC8-4543-B1B3-6C850E30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AF41C-9EAE-4739-9087-3049D492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59A24-4267-49BF-831A-CA1C9A49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B11AF-DD73-47B9-A28A-908F6A4F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4006A-03CF-49E6-BD8C-CB2F9B3D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05E24-0D62-47D8-97A0-0A36146B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C11E6-5E41-4468-BC6D-91AB2A91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354E3-6D1D-437D-BFA5-68358BF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1513E-6215-4881-9B3E-656ADADA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96252-8F84-4162-93B0-CD00185E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DB749-34D9-4E3D-9139-2395A07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97C-685B-4D80-9536-2707B8FD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344B-8155-467A-BCE5-F9D8D9EB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85EE4-126A-4ED4-826E-983C8C9D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A1392-9A46-4BED-902D-F9E389CA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C0C4-2353-46DD-88C9-BF5CADF6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C407A-21E2-4F73-822D-1DFFFF53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18D87-AF5B-4FE6-924C-4666447D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251D4-F3A9-4F9A-AF26-F568C46F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DC80-C56E-400A-A892-06B3FB89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CC0BA-E7B1-4449-8F23-516A241F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40597-2BBE-4A36-A9BC-E102EBD4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6A2-1D65-49E4-A42C-669B1D0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6C1BA-3870-4ABB-8DA8-C654815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4606D-6D0C-47FB-AA65-562D2185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01D49-4062-4B38-AD64-65C96B22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AA335-9521-4816-A01B-22F95A2A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EDFBE-8AE9-4F86-8F8D-EEEE03F7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6E495-867F-409A-A58E-00B3D08A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A67BA-81A7-48FF-BD9F-32A67863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BC67E-32FE-4011-B376-0ABAEF4A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2AFD6-8CE4-44C5-96F4-E3BD0FA8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B7C8C-2D52-423D-85F2-8931B52F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1B8-80FD-4BF3-94AF-C97CD49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0D1CA-3F2B-4586-B3F5-34BCD998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72B46-8C66-4CC3-A991-F3414521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F983B-6A48-4F8C-A906-119CCF31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C2C0-4AA1-4DBB-9057-142D27F6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61302-8C17-445E-968D-30BE74E6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D5DB7-AAD8-4355-8FD2-6B21D218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D9F76-8B8A-401B-85CF-25E37DB4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D602C-AC07-4C90-9724-61CEA8AA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F1EE1-A507-46DD-882B-45E3D70C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18487-EDD1-4578-907B-7726F387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7759-DDB9-4C7D-91FD-A6DEBA27D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184D-5461-4A00-933F-88FB327836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268B-16E4-4966-A764-9E957CB74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267A-A027-4BAA-B75E-803567ACF9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981E-3798-4A00-B475-E2D3B6811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6DCF-18B7-4E16-BAC4-707AAA6D7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FF71-2CF7-47B7-919F-9B4B0DE6D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034E-0A6A-4BB4-96ED-3C66B5789B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D31A-E604-43E9-9A30-CED0F1BA3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FA6-C6CA-4EE7-AF90-FDDCA2A85D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DA9B-389B-4B70-B461-B0B1F919AF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EF5C-C871-40E5-ABC8-D47B609DD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al Thin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Content Placeholder 4" descr="The_Thinker.jpg"/>
          <p:cNvPicPr/>
          <p:nvPr/>
        </p:nvPicPr>
        <p:blipFill>
          <a:blip r:embed="rId1"/>
          <a:stretch/>
        </p:blipFill>
        <p:spPr>
          <a:xfrm>
            <a:off x="3124080" y="2286000"/>
            <a:ext cx="2797200" cy="4572000"/>
          </a:xfrm>
          <a:prstGeom prst="rect">
            <a:avLst/>
          </a:prstGeom>
          <a:ln w="0">
            <a:noFill/>
          </a:ln>
        </p:spPr>
      </p:pic>
      <p:sp>
        <p:nvSpPr>
          <p:cNvPr id="608" name="Cloud Callout 5"/>
          <p:cNvSpPr/>
          <p:nvPr/>
        </p:nvSpPr>
        <p:spPr>
          <a:xfrm>
            <a:off x="4495680" y="1143000"/>
            <a:ext cx="3810240" cy="1523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Cloud Callout 6"/>
          <p:cNvSpPr/>
          <p:nvPr/>
        </p:nvSpPr>
        <p:spPr>
          <a:xfrm rot="10800000">
            <a:off x="228240" y="3276720"/>
            <a:ext cx="3886200" cy="1676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TextBox 7"/>
          <p:cNvSpPr/>
          <p:nvPr/>
        </p:nvSpPr>
        <p:spPr>
          <a:xfrm>
            <a:off x="5105520" y="1600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 h a t  I s   I t 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609480" y="4038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 h y  I s  I t  I m p o r t a n t 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Critical Thinking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Critical Thinking Importa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al Thin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…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pproaches all content explicitly as thin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takes thinking apar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weaves new thinking into o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assesses thin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applies thin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is thinking about thinking while thinking in order to make thinking better…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al Thin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kes thinking better by making i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clear …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vagu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accurate…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questionabl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relevant …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meaningless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deep …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superficial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broad …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isolated/stand alon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effective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impractical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hn Henry Newman, 185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man may hear a thousand lectures, and read a thousand volumes, and be at the end of the process very much where he was, as regards knowledge.  </a:t>
            </a:r>
            <a:r>
              <a:rPr b="0" lang="en-US" sz="2700" spc="-1" strike="noStrike">
                <a:solidFill>
                  <a:srgbClr val="595959"/>
                </a:solidFill>
                <a:latin typeface="Georgia"/>
              </a:rPr>
              <a:t>Something more than merely admitting it (information) in a negative way into the mind is necessary, if it is to remain there.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must not be passively received, but actually and actively entered into, embraced, mastered. </a:t>
            </a:r>
            <a:r>
              <a:rPr b="0" lang="en-US" sz="2700" spc="-1" strike="noStrike">
                <a:solidFill>
                  <a:srgbClr val="595959"/>
                </a:solidFill>
                <a:latin typeface="Georgia"/>
              </a:rPr>
              <a:t>The mind must go half-way to meet what comes to it from without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ontent is Thinking: 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Thinking is Content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 content “lives” in the form of thin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those who can “think” through the content, have i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 content “dies” when one tries to learn it without thinking it throug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through thinking can students “take possession” of content &amp; make it thei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to the extent that a student asks genuine questions and seeks answers to them, is a student taking content seriously and thinking it through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ks Cit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Critical Thinking: Basic Theory &amp; Instructional Structur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Dillon Beach, CA: The Foundation for Critical Thinking. 1999. Pri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4:28:37Z</dcterms:created>
  <dc:creator>bguenther</dc:creator>
  <dc:description/>
  <dc:language>en-US</dc:language>
  <cp:lastModifiedBy>EndUser</cp:lastModifiedBy>
  <dcterms:modified xsi:type="dcterms:W3CDTF">2010-04-11T18:06:59Z</dcterms:modified>
  <cp:revision>13</cp:revision>
  <dc:subject/>
  <dc:title>Critical Thinking</dc:title>
</cp:coreProperties>
</file>